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76080" y="379404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5400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3460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9348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7608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3460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9348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99840" y="0"/>
            <a:ext cx="75438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5400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7520" y="64922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D451-FBC0-4D02-A6A0-A30DA0C2B4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21520" y="64764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D893-D2BB-406D-8EF2-20483A979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salesppt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28560" y="6367320"/>
            <a:ext cx="4429080" cy="0"/>
          </a:xfrm>
          <a:prstGeom prst="line">
            <a:avLst/>
          </a:prstGeom>
          <a:ln w="9360">
            <a:solidFill>
              <a:srgbClr val="da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00200" y="407880"/>
            <a:ext cx="0" cy="6193080"/>
          </a:xfrm>
          <a:prstGeom prst="line">
            <a:avLst/>
          </a:prstGeom>
          <a:ln w="19080">
            <a:solidFill>
              <a:srgbClr val="d4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98400"/>
            <a:ext cx="6476760" cy="3240"/>
          </a:xfrm>
          <a:prstGeom prst="line">
            <a:avLst/>
          </a:prstGeom>
          <a:ln w="19080">
            <a:solidFill>
              <a:srgbClr val="d4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87280" y="1620720"/>
            <a:ext cx="665280" cy="4035600"/>
          </a:xfrm>
          <a:custGeom>
            <a:avLst/>
            <a:gdLst/>
            <a:ahLst/>
            <a:rect l="l" t="t" r="r" b="b"/>
            <a:pathLst>
              <a:path w="419" h="2542">
                <a:moveTo>
                  <a:pt x="0" y="2520"/>
                </a:moveTo>
                <a:lnTo>
                  <a:pt x="2" y="2517"/>
                </a:lnTo>
                <a:lnTo>
                  <a:pt x="2" y="2515"/>
                </a:lnTo>
                <a:lnTo>
                  <a:pt x="2" y="2512"/>
                </a:lnTo>
                <a:lnTo>
                  <a:pt x="2" y="2509"/>
                </a:lnTo>
                <a:lnTo>
                  <a:pt x="5" y="2507"/>
                </a:lnTo>
                <a:lnTo>
                  <a:pt x="5" y="2507"/>
                </a:lnTo>
                <a:lnTo>
                  <a:pt x="8" y="2504"/>
                </a:lnTo>
                <a:lnTo>
                  <a:pt x="8" y="2501"/>
                </a:lnTo>
                <a:lnTo>
                  <a:pt x="11" y="2501"/>
                </a:lnTo>
                <a:lnTo>
                  <a:pt x="13" y="2499"/>
                </a:lnTo>
                <a:lnTo>
                  <a:pt x="13" y="2499"/>
                </a:lnTo>
                <a:lnTo>
                  <a:pt x="16" y="2496"/>
                </a:lnTo>
                <a:lnTo>
                  <a:pt x="19" y="2496"/>
                </a:lnTo>
                <a:lnTo>
                  <a:pt x="21" y="2496"/>
                </a:lnTo>
                <a:lnTo>
                  <a:pt x="21" y="2496"/>
                </a:lnTo>
                <a:lnTo>
                  <a:pt x="24" y="2496"/>
                </a:lnTo>
                <a:lnTo>
                  <a:pt x="27" y="2496"/>
                </a:lnTo>
                <a:lnTo>
                  <a:pt x="29" y="2496"/>
                </a:lnTo>
                <a:lnTo>
                  <a:pt x="32" y="2496"/>
                </a:lnTo>
                <a:lnTo>
                  <a:pt x="35" y="2496"/>
                </a:lnTo>
                <a:lnTo>
                  <a:pt x="35" y="2499"/>
                </a:lnTo>
                <a:lnTo>
                  <a:pt x="37" y="2499"/>
                </a:lnTo>
                <a:lnTo>
                  <a:pt x="40" y="2501"/>
                </a:lnTo>
                <a:lnTo>
                  <a:pt x="40" y="2504"/>
                </a:lnTo>
                <a:lnTo>
                  <a:pt x="43" y="2504"/>
                </a:lnTo>
                <a:lnTo>
                  <a:pt x="45" y="2507"/>
                </a:lnTo>
                <a:lnTo>
                  <a:pt x="45" y="2509"/>
                </a:lnTo>
                <a:lnTo>
                  <a:pt x="45" y="2509"/>
                </a:lnTo>
                <a:lnTo>
                  <a:pt x="48" y="2512"/>
                </a:lnTo>
                <a:lnTo>
                  <a:pt x="48" y="2515"/>
                </a:lnTo>
                <a:lnTo>
                  <a:pt x="48" y="2517"/>
                </a:lnTo>
                <a:lnTo>
                  <a:pt x="48" y="2520"/>
                </a:lnTo>
                <a:lnTo>
                  <a:pt x="48" y="2523"/>
                </a:lnTo>
                <a:lnTo>
                  <a:pt x="48" y="2525"/>
                </a:lnTo>
                <a:lnTo>
                  <a:pt x="48" y="2525"/>
                </a:lnTo>
                <a:lnTo>
                  <a:pt x="45" y="2528"/>
                </a:lnTo>
                <a:lnTo>
                  <a:pt x="45" y="2531"/>
                </a:lnTo>
                <a:lnTo>
                  <a:pt x="43" y="2534"/>
                </a:lnTo>
                <a:lnTo>
                  <a:pt x="43" y="2534"/>
                </a:lnTo>
                <a:lnTo>
                  <a:pt x="40" y="2536"/>
                </a:lnTo>
                <a:lnTo>
                  <a:pt x="37" y="2539"/>
                </a:lnTo>
                <a:lnTo>
                  <a:pt x="37" y="2539"/>
                </a:lnTo>
                <a:lnTo>
                  <a:pt x="35" y="2542"/>
                </a:lnTo>
                <a:lnTo>
                  <a:pt x="32" y="2542"/>
                </a:lnTo>
                <a:lnTo>
                  <a:pt x="29" y="2542"/>
                </a:lnTo>
                <a:lnTo>
                  <a:pt x="29" y="2542"/>
                </a:lnTo>
                <a:lnTo>
                  <a:pt x="27" y="2542"/>
                </a:lnTo>
                <a:lnTo>
                  <a:pt x="24" y="2542"/>
                </a:lnTo>
                <a:lnTo>
                  <a:pt x="21" y="2542"/>
                </a:lnTo>
                <a:lnTo>
                  <a:pt x="19" y="2542"/>
                </a:lnTo>
                <a:lnTo>
                  <a:pt x="16" y="2542"/>
                </a:lnTo>
                <a:lnTo>
                  <a:pt x="16" y="2542"/>
                </a:lnTo>
                <a:lnTo>
                  <a:pt x="13" y="2539"/>
                </a:lnTo>
                <a:lnTo>
                  <a:pt x="11" y="2539"/>
                </a:lnTo>
                <a:lnTo>
                  <a:pt x="8" y="2536"/>
                </a:lnTo>
                <a:lnTo>
                  <a:pt x="8" y="2536"/>
                </a:lnTo>
                <a:lnTo>
                  <a:pt x="5" y="2534"/>
                </a:lnTo>
                <a:lnTo>
                  <a:pt x="5" y="2531"/>
                </a:lnTo>
                <a:lnTo>
                  <a:pt x="2" y="2531"/>
                </a:lnTo>
                <a:lnTo>
                  <a:pt x="2" y="2528"/>
                </a:lnTo>
                <a:lnTo>
                  <a:pt x="2" y="2525"/>
                </a:lnTo>
                <a:lnTo>
                  <a:pt x="2" y="2523"/>
                </a:lnTo>
                <a:lnTo>
                  <a:pt x="0" y="2520"/>
                </a:lnTo>
                <a:lnTo>
                  <a:pt x="0" y="2520"/>
                </a:lnTo>
                <a:close/>
                <a:moveTo>
                  <a:pt x="102" y="2536"/>
                </a:moveTo>
                <a:lnTo>
                  <a:pt x="102" y="2504"/>
                </a:lnTo>
                <a:lnTo>
                  <a:pt x="360" y="2509"/>
                </a:lnTo>
                <a:lnTo>
                  <a:pt x="357" y="2542"/>
                </a:lnTo>
                <a:lnTo>
                  <a:pt x="102" y="2536"/>
                </a:lnTo>
                <a:close/>
                <a:moveTo>
                  <a:pt x="107" y="2340"/>
                </a:moveTo>
                <a:lnTo>
                  <a:pt x="107" y="2308"/>
                </a:lnTo>
                <a:lnTo>
                  <a:pt x="132" y="2308"/>
                </a:lnTo>
                <a:lnTo>
                  <a:pt x="129" y="2305"/>
                </a:lnTo>
                <a:lnTo>
                  <a:pt x="123" y="2303"/>
                </a:lnTo>
                <a:lnTo>
                  <a:pt x="121" y="2300"/>
                </a:lnTo>
                <a:lnTo>
                  <a:pt x="121" y="2297"/>
                </a:lnTo>
                <a:lnTo>
                  <a:pt x="118" y="2295"/>
                </a:lnTo>
                <a:lnTo>
                  <a:pt x="115" y="2292"/>
                </a:lnTo>
                <a:lnTo>
                  <a:pt x="113" y="2289"/>
                </a:lnTo>
                <a:lnTo>
                  <a:pt x="113" y="2287"/>
                </a:lnTo>
                <a:lnTo>
                  <a:pt x="110" y="2284"/>
                </a:lnTo>
                <a:lnTo>
                  <a:pt x="107" y="2279"/>
                </a:lnTo>
                <a:lnTo>
                  <a:pt x="107" y="2276"/>
                </a:lnTo>
                <a:lnTo>
                  <a:pt x="107" y="2273"/>
                </a:lnTo>
                <a:lnTo>
                  <a:pt x="107" y="2271"/>
                </a:lnTo>
                <a:lnTo>
                  <a:pt x="105" y="2265"/>
                </a:lnTo>
                <a:lnTo>
                  <a:pt x="105" y="2263"/>
                </a:lnTo>
                <a:lnTo>
                  <a:pt x="105" y="2257"/>
                </a:lnTo>
                <a:lnTo>
                  <a:pt x="105" y="2252"/>
                </a:lnTo>
                <a:lnTo>
                  <a:pt x="107" y="2246"/>
                </a:lnTo>
                <a:lnTo>
                  <a:pt x="107" y="2238"/>
                </a:lnTo>
                <a:lnTo>
                  <a:pt x="110" y="2236"/>
                </a:lnTo>
                <a:lnTo>
                  <a:pt x="113" y="2230"/>
                </a:lnTo>
                <a:lnTo>
                  <a:pt x="118" y="2225"/>
                </a:lnTo>
                <a:lnTo>
                  <a:pt x="121" y="2222"/>
                </a:lnTo>
                <a:lnTo>
                  <a:pt x="126" y="2220"/>
                </a:lnTo>
                <a:lnTo>
                  <a:pt x="132" y="2217"/>
                </a:lnTo>
                <a:lnTo>
                  <a:pt x="137" y="2214"/>
                </a:lnTo>
                <a:lnTo>
                  <a:pt x="142" y="2212"/>
                </a:lnTo>
                <a:lnTo>
                  <a:pt x="150" y="2209"/>
                </a:lnTo>
                <a:lnTo>
                  <a:pt x="158" y="2209"/>
                </a:lnTo>
                <a:lnTo>
                  <a:pt x="169" y="2209"/>
                </a:lnTo>
                <a:lnTo>
                  <a:pt x="177" y="2209"/>
                </a:lnTo>
                <a:lnTo>
                  <a:pt x="188" y="2209"/>
                </a:lnTo>
                <a:lnTo>
                  <a:pt x="365" y="2212"/>
                </a:lnTo>
                <a:lnTo>
                  <a:pt x="365" y="2244"/>
                </a:lnTo>
                <a:lnTo>
                  <a:pt x="183" y="2238"/>
                </a:lnTo>
                <a:lnTo>
                  <a:pt x="175" y="2238"/>
                </a:lnTo>
                <a:lnTo>
                  <a:pt x="169" y="2238"/>
                </a:lnTo>
                <a:lnTo>
                  <a:pt x="164" y="2241"/>
                </a:lnTo>
                <a:lnTo>
                  <a:pt x="158" y="2241"/>
                </a:lnTo>
                <a:lnTo>
                  <a:pt x="153" y="2241"/>
                </a:lnTo>
                <a:lnTo>
                  <a:pt x="148" y="2244"/>
                </a:lnTo>
                <a:lnTo>
                  <a:pt x="145" y="2244"/>
                </a:lnTo>
                <a:lnTo>
                  <a:pt x="142" y="2246"/>
                </a:lnTo>
                <a:lnTo>
                  <a:pt x="140" y="2246"/>
                </a:lnTo>
                <a:lnTo>
                  <a:pt x="137" y="2249"/>
                </a:lnTo>
                <a:lnTo>
                  <a:pt x="134" y="2252"/>
                </a:lnTo>
                <a:lnTo>
                  <a:pt x="132" y="2254"/>
                </a:lnTo>
                <a:lnTo>
                  <a:pt x="132" y="2257"/>
                </a:lnTo>
                <a:lnTo>
                  <a:pt x="132" y="2263"/>
                </a:lnTo>
                <a:lnTo>
                  <a:pt x="129" y="2265"/>
                </a:lnTo>
                <a:lnTo>
                  <a:pt x="129" y="2271"/>
                </a:lnTo>
                <a:lnTo>
                  <a:pt x="129" y="2273"/>
                </a:lnTo>
                <a:lnTo>
                  <a:pt x="132" y="2279"/>
                </a:lnTo>
                <a:lnTo>
                  <a:pt x="132" y="2281"/>
                </a:lnTo>
                <a:lnTo>
                  <a:pt x="134" y="2287"/>
                </a:lnTo>
                <a:lnTo>
                  <a:pt x="137" y="2289"/>
                </a:lnTo>
                <a:lnTo>
                  <a:pt x="140" y="2292"/>
                </a:lnTo>
                <a:lnTo>
                  <a:pt x="142" y="2295"/>
                </a:lnTo>
                <a:lnTo>
                  <a:pt x="145" y="2297"/>
                </a:lnTo>
                <a:lnTo>
                  <a:pt x="150" y="2300"/>
                </a:lnTo>
                <a:lnTo>
                  <a:pt x="153" y="2303"/>
                </a:lnTo>
                <a:lnTo>
                  <a:pt x="158" y="2305"/>
                </a:lnTo>
                <a:lnTo>
                  <a:pt x="166" y="2305"/>
                </a:lnTo>
                <a:lnTo>
                  <a:pt x="172" y="2308"/>
                </a:lnTo>
                <a:lnTo>
                  <a:pt x="177" y="2308"/>
                </a:lnTo>
                <a:lnTo>
                  <a:pt x="185" y="2308"/>
                </a:lnTo>
                <a:lnTo>
                  <a:pt x="193" y="2308"/>
                </a:lnTo>
                <a:lnTo>
                  <a:pt x="363" y="2313"/>
                </a:lnTo>
                <a:lnTo>
                  <a:pt x="363" y="2346"/>
                </a:lnTo>
                <a:lnTo>
                  <a:pt x="107" y="2340"/>
                </a:lnTo>
                <a:close/>
                <a:moveTo>
                  <a:pt x="140" y="2040"/>
                </a:moveTo>
                <a:lnTo>
                  <a:pt x="140" y="2067"/>
                </a:lnTo>
                <a:lnTo>
                  <a:pt x="113" y="2067"/>
                </a:lnTo>
                <a:lnTo>
                  <a:pt x="113" y="2040"/>
                </a:lnTo>
                <a:lnTo>
                  <a:pt x="43" y="2037"/>
                </a:lnTo>
                <a:lnTo>
                  <a:pt x="43" y="2005"/>
                </a:lnTo>
                <a:lnTo>
                  <a:pt x="113" y="2008"/>
                </a:lnTo>
                <a:lnTo>
                  <a:pt x="115" y="1965"/>
                </a:lnTo>
                <a:lnTo>
                  <a:pt x="142" y="1965"/>
                </a:lnTo>
                <a:lnTo>
                  <a:pt x="140" y="2008"/>
                </a:lnTo>
                <a:lnTo>
                  <a:pt x="371" y="2013"/>
                </a:lnTo>
                <a:lnTo>
                  <a:pt x="371" y="2045"/>
                </a:lnTo>
                <a:lnTo>
                  <a:pt x="140" y="2040"/>
                </a:lnTo>
                <a:close/>
                <a:moveTo>
                  <a:pt x="231" y="1734"/>
                </a:moveTo>
                <a:lnTo>
                  <a:pt x="220" y="1734"/>
                </a:lnTo>
                <a:lnTo>
                  <a:pt x="210" y="1734"/>
                </a:lnTo>
                <a:lnTo>
                  <a:pt x="201" y="1737"/>
                </a:lnTo>
                <a:lnTo>
                  <a:pt x="193" y="1737"/>
                </a:lnTo>
                <a:lnTo>
                  <a:pt x="185" y="1737"/>
                </a:lnTo>
                <a:lnTo>
                  <a:pt x="180" y="1739"/>
                </a:lnTo>
                <a:lnTo>
                  <a:pt x="172" y="1742"/>
                </a:lnTo>
                <a:lnTo>
                  <a:pt x="166" y="1745"/>
                </a:lnTo>
                <a:lnTo>
                  <a:pt x="161" y="1747"/>
                </a:lnTo>
                <a:lnTo>
                  <a:pt x="156" y="1750"/>
                </a:lnTo>
                <a:lnTo>
                  <a:pt x="153" y="1753"/>
                </a:lnTo>
                <a:lnTo>
                  <a:pt x="150" y="1755"/>
                </a:lnTo>
                <a:lnTo>
                  <a:pt x="148" y="1758"/>
                </a:lnTo>
                <a:lnTo>
                  <a:pt x="145" y="1763"/>
                </a:lnTo>
                <a:lnTo>
                  <a:pt x="145" y="1766"/>
                </a:lnTo>
                <a:lnTo>
                  <a:pt x="142" y="1771"/>
                </a:lnTo>
                <a:lnTo>
                  <a:pt x="142" y="1777"/>
                </a:lnTo>
                <a:lnTo>
                  <a:pt x="145" y="1780"/>
                </a:lnTo>
                <a:lnTo>
                  <a:pt x="145" y="1785"/>
                </a:lnTo>
                <a:lnTo>
                  <a:pt x="148" y="1788"/>
                </a:lnTo>
                <a:lnTo>
                  <a:pt x="150" y="1793"/>
                </a:lnTo>
                <a:lnTo>
                  <a:pt x="156" y="1796"/>
                </a:lnTo>
                <a:lnTo>
                  <a:pt x="158" y="1798"/>
                </a:lnTo>
                <a:lnTo>
                  <a:pt x="164" y="1804"/>
                </a:lnTo>
                <a:lnTo>
                  <a:pt x="172" y="1806"/>
                </a:lnTo>
                <a:lnTo>
                  <a:pt x="177" y="1806"/>
                </a:lnTo>
                <a:lnTo>
                  <a:pt x="183" y="1809"/>
                </a:lnTo>
                <a:lnTo>
                  <a:pt x="191" y="1812"/>
                </a:lnTo>
                <a:lnTo>
                  <a:pt x="199" y="1814"/>
                </a:lnTo>
                <a:lnTo>
                  <a:pt x="210" y="1814"/>
                </a:lnTo>
                <a:lnTo>
                  <a:pt x="218" y="1817"/>
                </a:lnTo>
                <a:lnTo>
                  <a:pt x="228" y="1817"/>
                </a:lnTo>
                <a:lnTo>
                  <a:pt x="231" y="1734"/>
                </a:lnTo>
                <a:close/>
                <a:moveTo>
                  <a:pt x="258" y="1704"/>
                </a:moveTo>
                <a:lnTo>
                  <a:pt x="255" y="1817"/>
                </a:lnTo>
                <a:lnTo>
                  <a:pt x="263" y="1817"/>
                </a:lnTo>
                <a:lnTo>
                  <a:pt x="274" y="1817"/>
                </a:lnTo>
                <a:lnTo>
                  <a:pt x="282" y="1817"/>
                </a:lnTo>
                <a:lnTo>
                  <a:pt x="293" y="1817"/>
                </a:lnTo>
                <a:lnTo>
                  <a:pt x="301" y="1814"/>
                </a:lnTo>
                <a:lnTo>
                  <a:pt x="309" y="1814"/>
                </a:lnTo>
                <a:lnTo>
                  <a:pt x="317" y="1812"/>
                </a:lnTo>
                <a:lnTo>
                  <a:pt x="322" y="1812"/>
                </a:lnTo>
                <a:lnTo>
                  <a:pt x="328" y="1809"/>
                </a:lnTo>
                <a:lnTo>
                  <a:pt x="336" y="1806"/>
                </a:lnTo>
                <a:lnTo>
                  <a:pt x="339" y="1801"/>
                </a:lnTo>
                <a:lnTo>
                  <a:pt x="344" y="1798"/>
                </a:lnTo>
                <a:lnTo>
                  <a:pt x="347" y="1796"/>
                </a:lnTo>
                <a:lnTo>
                  <a:pt x="349" y="1790"/>
                </a:lnTo>
                <a:lnTo>
                  <a:pt x="352" y="1788"/>
                </a:lnTo>
                <a:lnTo>
                  <a:pt x="352" y="1782"/>
                </a:lnTo>
                <a:lnTo>
                  <a:pt x="352" y="1777"/>
                </a:lnTo>
                <a:lnTo>
                  <a:pt x="352" y="1774"/>
                </a:lnTo>
                <a:lnTo>
                  <a:pt x="352" y="1771"/>
                </a:lnTo>
                <a:lnTo>
                  <a:pt x="352" y="1766"/>
                </a:lnTo>
                <a:lnTo>
                  <a:pt x="349" y="1763"/>
                </a:lnTo>
                <a:lnTo>
                  <a:pt x="347" y="1761"/>
                </a:lnTo>
                <a:lnTo>
                  <a:pt x="344" y="1758"/>
                </a:lnTo>
                <a:lnTo>
                  <a:pt x="341" y="1755"/>
                </a:lnTo>
                <a:lnTo>
                  <a:pt x="336" y="1753"/>
                </a:lnTo>
                <a:lnTo>
                  <a:pt x="333" y="1750"/>
                </a:lnTo>
                <a:lnTo>
                  <a:pt x="328" y="1747"/>
                </a:lnTo>
                <a:lnTo>
                  <a:pt x="322" y="1745"/>
                </a:lnTo>
                <a:lnTo>
                  <a:pt x="317" y="1745"/>
                </a:lnTo>
                <a:lnTo>
                  <a:pt x="312" y="1742"/>
                </a:lnTo>
                <a:lnTo>
                  <a:pt x="306" y="1742"/>
                </a:lnTo>
                <a:lnTo>
                  <a:pt x="298" y="1739"/>
                </a:lnTo>
                <a:lnTo>
                  <a:pt x="290" y="1739"/>
                </a:lnTo>
                <a:lnTo>
                  <a:pt x="293" y="1710"/>
                </a:lnTo>
                <a:lnTo>
                  <a:pt x="301" y="1710"/>
                </a:lnTo>
                <a:lnTo>
                  <a:pt x="312" y="1712"/>
                </a:lnTo>
                <a:lnTo>
                  <a:pt x="320" y="1712"/>
                </a:lnTo>
                <a:lnTo>
                  <a:pt x="328" y="1715"/>
                </a:lnTo>
                <a:lnTo>
                  <a:pt x="336" y="1718"/>
                </a:lnTo>
                <a:lnTo>
                  <a:pt x="344" y="1723"/>
                </a:lnTo>
                <a:lnTo>
                  <a:pt x="352" y="1726"/>
                </a:lnTo>
                <a:lnTo>
                  <a:pt x="357" y="1731"/>
                </a:lnTo>
                <a:lnTo>
                  <a:pt x="363" y="1737"/>
                </a:lnTo>
                <a:lnTo>
                  <a:pt x="368" y="1742"/>
                </a:lnTo>
                <a:lnTo>
                  <a:pt x="371" y="1747"/>
                </a:lnTo>
                <a:lnTo>
                  <a:pt x="374" y="1753"/>
                </a:lnTo>
                <a:lnTo>
                  <a:pt x="376" y="1758"/>
                </a:lnTo>
                <a:lnTo>
                  <a:pt x="379" y="1766"/>
                </a:lnTo>
                <a:lnTo>
                  <a:pt x="379" y="1771"/>
                </a:lnTo>
                <a:lnTo>
                  <a:pt x="382" y="1780"/>
                </a:lnTo>
                <a:lnTo>
                  <a:pt x="379" y="1788"/>
                </a:lnTo>
                <a:lnTo>
                  <a:pt x="379" y="1796"/>
                </a:lnTo>
                <a:lnTo>
                  <a:pt x="376" y="1804"/>
                </a:lnTo>
                <a:lnTo>
                  <a:pt x="371" y="1812"/>
                </a:lnTo>
                <a:lnTo>
                  <a:pt x="365" y="1817"/>
                </a:lnTo>
                <a:lnTo>
                  <a:pt x="360" y="1822"/>
                </a:lnTo>
                <a:lnTo>
                  <a:pt x="355" y="1828"/>
                </a:lnTo>
                <a:lnTo>
                  <a:pt x="347" y="1833"/>
                </a:lnTo>
                <a:lnTo>
                  <a:pt x="339" y="1836"/>
                </a:lnTo>
                <a:lnTo>
                  <a:pt x="328" y="1839"/>
                </a:lnTo>
                <a:lnTo>
                  <a:pt x="317" y="1844"/>
                </a:lnTo>
                <a:lnTo>
                  <a:pt x="306" y="1844"/>
                </a:lnTo>
                <a:lnTo>
                  <a:pt x="293" y="1847"/>
                </a:lnTo>
                <a:lnTo>
                  <a:pt x="279" y="1847"/>
                </a:lnTo>
                <a:lnTo>
                  <a:pt x="263" y="1849"/>
                </a:lnTo>
                <a:lnTo>
                  <a:pt x="247" y="1849"/>
                </a:lnTo>
                <a:lnTo>
                  <a:pt x="231" y="1847"/>
                </a:lnTo>
                <a:lnTo>
                  <a:pt x="218" y="1847"/>
                </a:lnTo>
                <a:lnTo>
                  <a:pt x="204" y="1844"/>
                </a:lnTo>
                <a:lnTo>
                  <a:pt x="191" y="1841"/>
                </a:lnTo>
                <a:lnTo>
                  <a:pt x="180" y="1839"/>
                </a:lnTo>
                <a:lnTo>
                  <a:pt x="169" y="1836"/>
                </a:lnTo>
                <a:lnTo>
                  <a:pt x="158" y="1830"/>
                </a:lnTo>
                <a:lnTo>
                  <a:pt x="148" y="1828"/>
                </a:lnTo>
                <a:lnTo>
                  <a:pt x="140" y="1822"/>
                </a:lnTo>
                <a:lnTo>
                  <a:pt x="134" y="1814"/>
                </a:lnTo>
                <a:lnTo>
                  <a:pt x="126" y="1809"/>
                </a:lnTo>
                <a:lnTo>
                  <a:pt x="123" y="1804"/>
                </a:lnTo>
                <a:lnTo>
                  <a:pt x="118" y="1796"/>
                </a:lnTo>
                <a:lnTo>
                  <a:pt x="115" y="1788"/>
                </a:lnTo>
                <a:lnTo>
                  <a:pt x="115" y="1780"/>
                </a:lnTo>
                <a:lnTo>
                  <a:pt x="115" y="1771"/>
                </a:lnTo>
                <a:lnTo>
                  <a:pt x="115" y="1763"/>
                </a:lnTo>
                <a:lnTo>
                  <a:pt x="118" y="1755"/>
                </a:lnTo>
                <a:lnTo>
                  <a:pt x="121" y="1747"/>
                </a:lnTo>
                <a:lnTo>
                  <a:pt x="123" y="1742"/>
                </a:lnTo>
                <a:lnTo>
                  <a:pt x="129" y="1737"/>
                </a:lnTo>
                <a:lnTo>
                  <a:pt x="134" y="1729"/>
                </a:lnTo>
                <a:lnTo>
                  <a:pt x="142" y="1726"/>
                </a:lnTo>
                <a:lnTo>
                  <a:pt x="148" y="1720"/>
                </a:lnTo>
                <a:lnTo>
                  <a:pt x="158" y="1715"/>
                </a:lnTo>
                <a:lnTo>
                  <a:pt x="166" y="1712"/>
                </a:lnTo>
                <a:lnTo>
                  <a:pt x="180" y="1710"/>
                </a:lnTo>
                <a:lnTo>
                  <a:pt x="191" y="1707"/>
                </a:lnTo>
                <a:lnTo>
                  <a:pt x="204" y="1707"/>
                </a:lnTo>
                <a:lnTo>
                  <a:pt x="218" y="1704"/>
                </a:lnTo>
                <a:lnTo>
                  <a:pt x="231" y="1704"/>
                </a:lnTo>
                <a:lnTo>
                  <a:pt x="247" y="1704"/>
                </a:lnTo>
                <a:lnTo>
                  <a:pt x="258" y="1704"/>
                </a:lnTo>
                <a:close/>
                <a:moveTo>
                  <a:pt x="123" y="1554"/>
                </a:moveTo>
                <a:lnTo>
                  <a:pt x="123" y="1522"/>
                </a:lnTo>
                <a:lnTo>
                  <a:pt x="158" y="1525"/>
                </a:lnTo>
                <a:lnTo>
                  <a:pt x="156" y="1522"/>
                </a:lnTo>
                <a:lnTo>
                  <a:pt x="150" y="1519"/>
                </a:lnTo>
                <a:lnTo>
                  <a:pt x="148" y="1517"/>
                </a:lnTo>
                <a:lnTo>
                  <a:pt x="145" y="1517"/>
                </a:lnTo>
                <a:lnTo>
                  <a:pt x="140" y="1514"/>
                </a:lnTo>
                <a:lnTo>
                  <a:pt x="137" y="1511"/>
                </a:lnTo>
                <a:lnTo>
                  <a:pt x="134" y="1508"/>
                </a:lnTo>
                <a:lnTo>
                  <a:pt x="132" y="1506"/>
                </a:lnTo>
                <a:lnTo>
                  <a:pt x="132" y="1503"/>
                </a:lnTo>
                <a:lnTo>
                  <a:pt x="129" y="1500"/>
                </a:lnTo>
                <a:lnTo>
                  <a:pt x="126" y="1498"/>
                </a:lnTo>
                <a:lnTo>
                  <a:pt x="126" y="1495"/>
                </a:lnTo>
                <a:lnTo>
                  <a:pt x="123" y="1490"/>
                </a:lnTo>
                <a:lnTo>
                  <a:pt x="123" y="1487"/>
                </a:lnTo>
                <a:lnTo>
                  <a:pt x="123" y="1484"/>
                </a:lnTo>
                <a:lnTo>
                  <a:pt x="123" y="1482"/>
                </a:lnTo>
                <a:lnTo>
                  <a:pt x="156" y="1482"/>
                </a:lnTo>
                <a:lnTo>
                  <a:pt x="158" y="1487"/>
                </a:lnTo>
                <a:lnTo>
                  <a:pt x="158" y="1492"/>
                </a:lnTo>
                <a:lnTo>
                  <a:pt x="158" y="1498"/>
                </a:lnTo>
                <a:lnTo>
                  <a:pt x="161" y="1503"/>
                </a:lnTo>
                <a:lnTo>
                  <a:pt x="164" y="1506"/>
                </a:lnTo>
                <a:lnTo>
                  <a:pt x="166" y="1508"/>
                </a:lnTo>
                <a:lnTo>
                  <a:pt x="169" y="1511"/>
                </a:lnTo>
                <a:lnTo>
                  <a:pt x="172" y="1514"/>
                </a:lnTo>
                <a:lnTo>
                  <a:pt x="177" y="1517"/>
                </a:lnTo>
                <a:lnTo>
                  <a:pt x="183" y="1519"/>
                </a:lnTo>
                <a:lnTo>
                  <a:pt x="188" y="1522"/>
                </a:lnTo>
                <a:lnTo>
                  <a:pt x="193" y="1522"/>
                </a:lnTo>
                <a:lnTo>
                  <a:pt x="201" y="1525"/>
                </a:lnTo>
                <a:lnTo>
                  <a:pt x="210" y="1525"/>
                </a:lnTo>
                <a:lnTo>
                  <a:pt x="218" y="1525"/>
                </a:lnTo>
                <a:lnTo>
                  <a:pt x="228" y="1525"/>
                </a:lnTo>
                <a:lnTo>
                  <a:pt x="382" y="1530"/>
                </a:lnTo>
                <a:lnTo>
                  <a:pt x="382" y="1559"/>
                </a:lnTo>
                <a:lnTo>
                  <a:pt x="123" y="1554"/>
                </a:lnTo>
                <a:close/>
                <a:moveTo>
                  <a:pt x="258" y="1321"/>
                </a:moveTo>
                <a:lnTo>
                  <a:pt x="274" y="1321"/>
                </a:lnTo>
                <a:lnTo>
                  <a:pt x="287" y="1321"/>
                </a:lnTo>
                <a:lnTo>
                  <a:pt x="298" y="1321"/>
                </a:lnTo>
                <a:lnTo>
                  <a:pt x="309" y="1321"/>
                </a:lnTo>
                <a:lnTo>
                  <a:pt x="320" y="1318"/>
                </a:lnTo>
                <a:lnTo>
                  <a:pt x="328" y="1318"/>
                </a:lnTo>
                <a:lnTo>
                  <a:pt x="336" y="1315"/>
                </a:lnTo>
                <a:lnTo>
                  <a:pt x="341" y="1315"/>
                </a:lnTo>
                <a:lnTo>
                  <a:pt x="347" y="1313"/>
                </a:lnTo>
                <a:lnTo>
                  <a:pt x="352" y="1310"/>
                </a:lnTo>
                <a:lnTo>
                  <a:pt x="355" y="1307"/>
                </a:lnTo>
                <a:lnTo>
                  <a:pt x="360" y="1302"/>
                </a:lnTo>
                <a:lnTo>
                  <a:pt x="363" y="1299"/>
                </a:lnTo>
                <a:lnTo>
                  <a:pt x="363" y="1294"/>
                </a:lnTo>
                <a:lnTo>
                  <a:pt x="365" y="1288"/>
                </a:lnTo>
                <a:lnTo>
                  <a:pt x="365" y="1283"/>
                </a:lnTo>
                <a:lnTo>
                  <a:pt x="365" y="1280"/>
                </a:lnTo>
                <a:lnTo>
                  <a:pt x="363" y="1275"/>
                </a:lnTo>
                <a:lnTo>
                  <a:pt x="363" y="1270"/>
                </a:lnTo>
                <a:lnTo>
                  <a:pt x="360" y="1267"/>
                </a:lnTo>
                <a:lnTo>
                  <a:pt x="357" y="1262"/>
                </a:lnTo>
                <a:lnTo>
                  <a:pt x="352" y="1259"/>
                </a:lnTo>
                <a:lnTo>
                  <a:pt x="347" y="1256"/>
                </a:lnTo>
                <a:lnTo>
                  <a:pt x="341" y="1254"/>
                </a:lnTo>
                <a:lnTo>
                  <a:pt x="336" y="1251"/>
                </a:lnTo>
                <a:lnTo>
                  <a:pt x="328" y="1251"/>
                </a:lnTo>
                <a:lnTo>
                  <a:pt x="320" y="1248"/>
                </a:lnTo>
                <a:lnTo>
                  <a:pt x="309" y="1248"/>
                </a:lnTo>
                <a:lnTo>
                  <a:pt x="298" y="1246"/>
                </a:lnTo>
                <a:lnTo>
                  <a:pt x="287" y="1246"/>
                </a:lnTo>
                <a:lnTo>
                  <a:pt x="274" y="1243"/>
                </a:lnTo>
                <a:lnTo>
                  <a:pt x="261" y="1243"/>
                </a:lnTo>
                <a:lnTo>
                  <a:pt x="247" y="1243"/>
                </a:lnTo>
                <a:lnTo>
                  <a:pt x="234" y="1243"/>
                </a:lnTo>
                <a:lnTo>
                  <a:pt x="220" y="1243"/>
                </a:lnTo>
                <a:lnTo>
                  <a:pt x="210" y="1246"/>
                </a:lnTo>
                <a:lnTo>
                  <a:pt x="201" y="1246"/>
                </a:lnTo>
                <a:lnTo>
                  <a:pt x="193" y="1248"/>
                </a:lnTo>
                <a:lnTo>
                  <a:pt x="185" y="1248"/>
                </a:lnTo>
                <a:lnTo>
                  <a:pt x="177" y="1251"/>
                </a:lnTo>
                <a:lnTo>
                  <a:pt x="172" y="1254"/>
                </a:lnTo>
                <a:lnTo>
                  <a:pt x="166" y="1256"/>
                </a:lnTo>
                <a:lnTo>
                  <a:pt x="164" y="1259"/>
                </a:lnTo>
                <a:lnTo>
                  <a:pt x="161" y="1262"/>
                </a:lnTo>
                <a:lnTo>
                  <a:pt x="158" y="1267"/>
                </a:lnTo>
                <a:lnTo>
                  <a:pt x="156" y="1270"/>
                </a:lnTo>
                <a:lnTo>
                  <a:pt x="153" y="1275"/>
                </a:lnTo>
                <a:lnTo>
                  <a:pt x="153" y="1280"/>
                </a:lnTo>
                <a:lnTo>
                  <a:pt x="153" y="1286"/>
                </a:lnTo>
                <a:lnTo>
                  <a:pt x="156" y="1288"/>
                </a:lnTo>
                <a:lnTo>
                  <a:pt x="156" y="1294"/>
                </a:lnTo>
                <a:lnTo>
                  <a:pt x="158" y="1299"/>
                </a:lnTo>
                <a:lnTo>
                  <a:pt x="161" y="1302"/>
                </a:lnTo>
                <a:lnTo>
                  <a:pt x="166" y="1305"/>
                </a:lnTo>
                <a:lnTo>
                  <a:pt x="172" y="1307"/>
                </a:lnTo>
                <a:lnTo>
                  <a:pt x="177" y="1310"/>
                </a:lnTo>
                <a:lnTo>
                  <a:pt x="183" y="1313"/>
                </a:lnTo>
                <a:lnTo>
                  <a:pt x="191" y="1315"/>
                </a:lnTo>
                <a:lnTo>
                  <a:pt x="199" y="1315"/>
                </a:lnTo>
                <a:lnTo>
                  <a:pt x="207" y="1318"/>
                </a:lnTo>
                <a:lnTo>
                  <a:pt x="220" y="1318"/>
                </a:lnTo>
                <a:lnTo>
                  <a:pt x="231" y="1321"/>
                </a:lnTo>
                <a:lnTo>
                  <a:pt x="244" y="1321"/>
                </a:lnTo>
                <a:lnTo>
                  <a:pt x="258" y="1321"/>
                </a:lnTo>
                <a:close/>
                <a:moveTo>
                  <a:pt x="387" y="1248"/>
                </a:moveTo>
                <a:lnTo>
                  <a:pt x="363" y="1248"/>
                </a:lnTo>
                <a:lnTo>
                  <a:pt x="368" y="1248"/>
                </a:lnTo>
                <a:lnTo>
                  <a:pt x="371" y="1251"/>
                </a:lnTo>
                <a:lnTo>
                  <a:pt x="374" y="1254"/>
                </a:lnTo>
                <a:lnTo>
                  <a:pt x="376" y="1256"/>
                </a:lnTo>
                <a:lnTo>
                  <a:pt x="379" y="1259"/>
                </a:lnTo>
                <a:lnTo>
                  <a:pt x="382" y="1262"/>
                </a:lnTo>
                <a:lnTo>
                  <a:pt x="382" y="1264"/>
                </a:lnTo>
                <a:lnTo>
                  <a:pt x="384" y="1267"/>
                </a:lnTo>
                <a:lnTo>
                  <a:pt x="387" y="1270"/>
                </a:lnTo>
                <a:lnTo>
                  <a:pt x="387" y="1272"/>
                </a:lnTo>
                <a:lnTo>
                  <a:pt x="390" y="1275"/>
                </a:lnTo>
                <a:lnTo>
                  <a:pt x="390" y="1278"/>
                </a:lnTo>
                <a:lnTo>
                  <a:pt x="390" y="1283"/>
                </a:lnTo>
                <a:lnTo>
                  <a:pt x="390" y="1286"/>
                </a:lnTo>
                <a:lnTo>
                  <a:pt x="390" y="1288"/>
                </a:lnTo>
                <a:lnTo>
                  <a:pt x="392" y="1294"/>
                </a:lnTo>
                <a:lnTo>
                  <a:pt x="390" y="1302"/>
                </a:lnTo>
                <a:lnTo>
                  <a:pt x="390" y="1310"/>
                </a:lnTo>
                <a:lnTo>
                  <a:pt x="387" y="1315"/>
                </a:lnTo>
                <a:lnTo>
                  <a:pt x="382" y="1321"/>
                </a:lnTo>
                <a:lnTo>
                  <a:pt x="379" y="1329"/>
                </a:lnTo>
                <a:lnTo>
                  <a:pt x="371" y="1331"/>
                </a:lnTo>
                <a:lnTo>
                  <a:pt x="365" y="1337"/>
                </a:lnTo>
                <a:lnTo>
                  <a:pt x="357" y="1339"/>
                </a:lnTo>
                <a:lnTo>
                  <a:pt x="349" y="1345"/>
                </a:lnTo>
                <a:lnTo>
                  <a:pt x="339" y="1347"/>
                </a:lnTo>
                <a:lnTo>
                  <a:pt x="328" y="1350"/>
                </a:lnTo>
                <a:lnTo>
                  <a:pt x="314" y="1350"/>
                </a:lnTo>
                <a:lnTo>
                  <a:pt x="301" y="1353"/>
                </a:lnTo>
                <a:lnTo>
                  <a:pt x="285" y="1353"/>
                </a:lnTo>
                <a:lnTo>
                  <a:pt x="269" y="1353"/>
                </a:lnTo>
                <a:lnTo>
                  <a:pt x="250" y="1353"/>
                </a:lnTo>
                <a:lnTo>
                  <a:pt x="234" y="1353"/>
                </a:lnTo>
                <a:lnTo>
                  <a:pt x="220" y="1350"/>
                </a:lnTo>
                <a:lnTo>
                  <a:pt x="207" y="1350"/>
                </a:lnTo>
                <a:lnTo>
                  <a:pt x="193" y="1347"/>
                </a:lnTo>
                <a:lnTo>
                  <a:pt x="183" y="1345"/>
                </a:lnTo>
                <a:lnTo>
                  <a:pt x="172" y="1342"/>
                </a:lnTo>
                <a:lnTo>
                  <a:pt x="164" y="1339"/>
                </a:lnTo>
                <a:lnTo>
                  <a:pt x="156" y="1337"/>
                </a:lnTo>
                <a:lnTo>
                  <a:pt x="148" y="1331"/>
                </a:lnTo>
                <a:lnTo>
                  <a:pt x="142" y="1326"/>
                </a:lnTo>
                <a:lnTo>
                  <a:pt x="137" y="1321"/>
                </a:lnTo>
                <a:lnTo>
                  <a:pt x="134" y="1315"/>
                </a:lnTo>
                <a:lnTo>
                  <a:pt x="132" y="1310"/>
                </a:lnTo>
                <a:lnTo>
                  <a:pt x="129" y="1302"/>
                </a:lnTo>
                <a:lnTo>
                  <a:pt x="126" y="1296"/>
                </a:lnTo>
                <a:lnTo>
                  <a:pt x="126" y="1288"/>
                </a:lnTo>
                <a:lnTo>
                  <a:pt x="126" y="1283"/>
                </a:lnTo>
                <a:lnTo>
                  <a:pt x="126" y="1280"/>
                </a:lnTo>
                <a:lnTo>
                  <a:pt x="129" y="1278"/>
                </a:lnTo>
                <a:lnTo>
                  <a:pt x="129" y="1275"/>
                </a:lnTo>
                <a:lnTo>
                  <a:pt x="129" y="1270"/>
                </a:lnTo>
                <a:lnTo>
                  <a:pt x="132" y="1267"/>
                </a:lnTo>
                <a:lnTo>
                  <a:pt x="132" y="1264"/>
                </a:lnTo>
                <a:lnTo>
                  <a:pt x="134" y="1262"/>
                </a:lnTo>
                <a:lnTo>
                  <a:pt x="137" y="1259"/>
                </a:lnTo>
                <a:lnTo>
                  <a:pt x="137" y="1256"/>
                </a:lnTo>
                <a:lnTo>
                  <a:pt x="140" y="1254"/>
                </a:lnTo>
                <a:lnTo>
                  <a:pt x="142" y="1251"/>
                </a:lnTo>
                <a:lnTo>
                  <a:pt x="145" y="1248"/>
                </a:lnTo>
                <a:lnTo>
                  <a:pt x="148" y="1248"/>
                </a:lnTo>
                <a:lnTo>
                  <a:pt x="150" y="1246"/>
                </a:lnTo>
                <a:lnTo>
                  <a:pt x="156" y="1243"/>
                </a:lnTo>
                <a:lnTo>
                  <a:pt x="132" y="1243"/>
                </a:lnTo>
                <a:lnTo>
                  <a:pt x="132" y="1211"/>
                </a:lnTo>
                <a:lnTo>
                  <a:pt x="387" y="1216"/>
                </a:lnTo>
                <a:lnTo>
                  <a:pt x="387" y="1248"/>
                </a:lnTo>
                <a:close/>
                <a:moveTo>
                  <a:pt x="145" y="945"/>
                </a:moveTo>
                <a:lnTo>
                  <a:pt x="180" y="945"/>
                </a:lnTo>
                <a:lnTo>
                  <a:pt x="180" y="948"/>
                </a:lnTo>
                <a:lnTo>
                  <a:pt x="177" y="948"/>
                </a:lnTo>
                <a:lnTo>
                  <a:pt x="175" y="950"/>
                </a:lnTo>
                <a:lnTo>
                  <a:pt x="172" y="953"/>
                </a:lnTo>
                <a:lnTo>
                  <a:pt x="172" y="953"/>
                </a:lnTo>
                <a:lnTo>
                  <a:pt x="169" y="956"/>
                </a:lnTo>
                <a:lnTo>
                  <a:pt x="169" y="958"/>
                </a:lnTo>
                <a:lnTo>
                  <a:pt x="166" y="958"/>
                </a:lnTo>
                <a:lnTo>
                  <a:pt x="166" y="961"/>
                </a:lnTo>
                <a:lnTo>
                  <a:pt x="166" y="964"/>
                </a:lnTo>
                <a:lnTo>
                  <a:pt x="164" y="964"/>
                </a:lnTo>
                <a:lnTo>
                  <a:pt x="164" y="966"/>
                </a:lnTo>
                <a:lnTo>
                  <a:pt x="164" y="969"/>
                </a:lnTo>
                <a:lnTo>
                  <a:pt x="164" y="972"/>
                </a:lnTo>
                <a:lnTo>
                  <a:pt x="164" y="974"/>
                </a:lnTo>
                <a:lnTo>
                  <a:pt x="164" y="977"/>
                </a:lnTo>
                <a:lnTo>
                  <a:pt x="164" y="983"/>
                </a:lnTo>
                <a:lnTo>
                  <a:pt x="164" y="988"/>
                </a:lnTo>
                <a:lnTo>
                  <a:pt x="166" y="993"/>
                </a:lnTo>
                <a:lnTo>
                  <a:pt x="169" y="999"/>
                </a:lnTo>
                <a:lnTo>
                  <a:pt x="172" y="1001"/>
                </a:lnTo>
                <a:lnTo>
                  <a:pt x="177" y="1007"/>
                </a:lnTo>
                <a:lnTo>
                  <a:pt x="183" y="1009"/>
                </a:lnTo>
                <a:lnTo>
                  <a:pt x="188" y="1012"/>
                </a:lnTo>
                <a:lnTo>
                  <a:pt x="196" y="1015"/>
                </a:lnTo>
                <a:lnTo>
                  <a:pt x="201" y="1017"/>
                </a:lnTo>
                <a:lnTo>
                  <a:pt x="212" y="1020"/>
                </a:lnTo>
                <a:lnTo>
                  <a:pt x="220" y="1023"/>
                </a:lnTo>
                <a:lnTo>
                  <a:pt x="231" y="1023"/>
                </a:lnTo>
                <a:lnTo>
                  <a:pt x="244" y="1025"/>
                </a:lnTo>
                <a:lnTo>
                  <a:pt x="255" y="1025"/>
                </a:lnTo>
                <a:lnTo>
                  <a:pt x="271" y="1025"/>
                </a:lnTo>
                <a:lnTo>
                  <a:pt x="282" y="1025"/>
                </a:lnTo>
                <a:lnTo>
                  <a:pt x="293" y="1025"/>
                </a:lnTo>
                <a:lnTo>
                  <a:pt x="304" y="1025"/>
                </a:lnTo>
                <a:lnTo>
                  <a:pt x="312" y="1023"/>
                </a:lnTo>
                <a:lnTo>
                  <a:pt x="320" y="1023"/>
                </a:lnTo>
                <a:lnTo>
                  <a:pt x="328" y="1020"/>
                </a:lnTo>
                <a:lnTo>
                  <a:pt x="336" y="1017"/>
                </a:lnTo>
                <a:lnTo>
                  <a:pt x="341" y="1015"/>
                </a:lnTo>
                <a:lnTo>
                  <a:pt x="347" y="1012"/>
                </a:lnTo>
                <a:lnTo>
                  <a:pt x="352" y="1009"/>
                </a:lnTo>
                <a:lnTo>
                  <a:pt x="357" y="1007"/>
                </a:lnTo>
                <a:lnTo>
                  <a:pt x="360" y="1001"/>
                </a:lnTo>
                <a:lnTo>
                  <a:pt x="363" y="996"/>
                </a:lnTo>
                <a:lnTo>
                  <a:pt x="365" y="993"/>
                </a:lnTo>
                <a:lnTo>
                  <a:pt x="365" y="988"/>
                </a:lnTo>
                <a:lnTo>
                  <a:pt x="365" y="983"/>
                </a:lnTo>
                <a:lnTo>
                  <a:pt x="365" y="980"/>
                </a:lnTo>
                <a:lnTo>
                  <a:pt x="365" y="977"/>
                </a:lnTo>
                <a:lnTo>
                  <a:pt x="365" y="974"/>
                </a:lnTo>
                <a:lnTo>
                  <a:pt x="365" y="972"/>
                </a:lnTo>
                <a:lnTo>
                  <a:pt x="365" y="969"/>
                </a:lnTo>
                <a:lnTo>
                  <a:pt x="363" y="966"/>
                </a:lnTo>
                <a:lnTo>
                  <a:pt x="363" y="966"/>
                </a:lnTo>
                <a:lnTo>
                  <a:pt x="363" y="964"/>
                </a:lnTo>
                <a:lnTo>
                  <a:pt x="360" y="961"/>
                </a:lnTo>
                <a:lnTo>
                  <a:pt x="360" y="958"/>
                </a:lnTo>
                <a:lnTo>
                  <a:pt x="357" y="958"/>
                </a:lnTo>
                <a:lnTo>
                  <a:pt x="357" y="956"/>
                </a:lnTo>
                <a:lnTo>
                  <a:pt x="355" y="953"/>
                </a:lnTo>
                <a:lnTo>
                  <a:pt x="352" y="953"/>
                </a:lnTo>
                <a:lnTo>
                  <a:pt x="349" y="950"/>
                </a:lnTo>
                <a:lnTo>
                  <a:pt x="347" y="948"/>
                </a:lnTo>
                <a:lnTo>
                  <a:pt x="384" y="950"/>
                </a:lnTo>
                <a:lnTo>
                  <a:pt x="387" y="953"/>
                </a:lnTo>
                <a:lnTo>
                  <a:pt x="387" y="953"/>
                </a:lnTo>
                <a:lnTo>
                  <a:pt x="390" y="956"/>
                </a:lnTo>
                <a:lnTo>
                  <a:pt x="390" y="958"/>
                </a:lnTo>
                <a:lnTo>
                  <a:pt x="392" y="961"/>
                </a:lnTo>
                <a:lnTo>
                  <a:pt x="392" y="964"/>
                </a:lnTo>
                <a:lnTo>
                  <a:pt x="392" y="966"/>
                </a:lnTo>
                <a:lnTo>
                  <a:pt x="395" y="969"/>
                </a:lnTo>
                <a:lnTo>
                  <a:pt x="395" y="969"/>
                </a:lnTo>
                <a:lnTo>
                  <a:pt x="395" y="972"/>
                </a:lnTo>
                <a:lnTo>
                  <a:pt x="395" y="974"/>
                </a:lnTo>
                <a:lnTo>
                  <a:pt x="395" y="977"/>
                </a:lnTo>
                <a:lnTo>
                  <a:pt x="395" y="980"/>
                </a:lnTo>
                <a:lnTo>
                  <a:pt x="395" y="983"/>
                </a:lnTo>
                <a:lnTo>
                  <a:pt x="395" y="985"/>
                </a:lnTo>
                <a:lnTo>
                  <a:pt x="395" y="988"/>
                </a:lnTo>
                <a:lnTo>
                  <a:pt x="395" y="996"/>
                </a:lnTo>
                <a:lnTo>
                  <a:pt x="395" y="1004"/>
                </a:lnTo>
                <a:lnTo>
                  <a:pt x="390" y="1012"/>
                </a:lnTo>
                <a:lnTo>
                  <a:pt x="387" y="1017"/>
                </a:lnTo>
                <a:lnTo>
                  <a:pt x="382" y="1023"/>
                </a:lnTo>
                <a:lnTo>
                  <a:pt x="376" y="1031"/>
                </a:lnTo>
                <a:lnTo>
                  <a:pt x="368" y="1036"/>
                </a:lnTo>
                <a:lnTo>
                  <a:pt x="363" y="1039"/>
                </a:lnTo>
                <a:lnTo>
                  <a:pt x="352" y="1044"/>
                </a:lnTo>
                <a:lnTo>
                  <a:pt x="344" y="1050"/>
                </a:lnTo>
                <a:lnTo>
                  <a:pt x="333" y="1052"/>
                </a:lnTo>
                <a:lnTo>
                  <a:pt x="320" y="1055"/>
                </a:lnTo>
                <a:lnTo>
                  <a:pt x="309" y="1055"/>
                </a:lnTo>
                <a:lnTo>
                  <a:pt x="296" y="1058"/>
                </a:lnTo>
                <a:lnTo>
                  <a:pt x="282" y="1058"/>
                </a:lnTo>
                <a:lnTo>
                  <a:pt x="269" y="1058"/>
                </a:lnTo>
                <a:lnTo>
                  <a:pt x="253" y="1058"/>
                </a:lnTo>
                <a:lnTo>
                  <a:pt x="236" y="1055"/>
                </a:lnTo>
                <a:lnTo>
                  <a:pt x="223" y="1055"/>
                </a:lnTo>
                <a:lnTo>
                  <a:pt x="210" y="1052"/>
                </a:lnTo>
                <a:lnTo>
                  <a:pt x="196" y="1047"/>
                </a:lnTo>
                <a:lnTo>
                  <a:pt x="185" y="1044"/>
                </a:lnTo>
                <a:lnTo>
                  <a:pt x="175" y="1042"/>
                </a:lnTo>
                <a:lnTo>
                  <a:pt x="166" y="1036"/>
                </a:lnTo>
                <a:lnTo>
                  <a:pt x="158" y="1031"/>
                </a:lnTo>
                <a:lnTo>
                  <a:pt x="153" y="1023"/>
                </a:lnTo>
                <a:lnTo>
                  <a:pt x="145" y="1017"/>
                </a:lnTo>
                <a:lnTo>
                  <a:pt x="142" y="1009"/>
                </a:lnTo>
                <a:lnTo>
                  <a:pt x="137" y="1001"/>
                </a:lnTo>
                <a:lnTo>
                  <a:pt x="134" y="993"/>
                </a:lnTo>
                <a:lnTo>
                  <a:pt x="134" y="985"/>
                </a:lnTo>
                <a:lnTo>
                  <a:pt x="134" y="974"/>
                </a:lnTo>
                <a:lnTo>
                  <a:pt x="134" y="972"/>
                </a:lnTo>
                <a:lnTo>
                  <a:pt x="134" y="972"/>
                </a:lnTo>
                <a:lnTo>
                  <a:pt x="134" y="969"/>
                </a:lnTo>
                <a:lnTo>
                  <a:pt x="134" y="966"/>
                </a:lnTo>
                <a:lnTo>
                  <a:pt x="134" y="964"/>
                </a:lnTo>
                <a:lnTo>
                  <a:pt x="134" y="964"/>
                </a:lnTo>
                <a:lnTo>
                  <a:pt x="137" y="961"/>
                </a:lnTo>
                <a:lnTo>
                  <a:pt x="137" y="958"/>
                </a:lnTo>
                <a:lnTo>
                  <a:pt x="137" y="956"/>
                </a:lnTo>
                <a:lnTo>
                  <a:pt x="137" y="956"/>
                </a:lnTo>
                <a:lnTo>
                  <a:pt x="140" y="953"/>
                </a:lnTo>
                <a:lnTo>
                  <a:pt x="140" y="950"/>
                </a:lnTo>
                <a:lnTo>
                  <a:pt x="140" y="948"/>
                </a:lnTo>
                <a:lnTo>
                  <a:pt x="142" y="948"/>
                </a:lnTo>
                <a:lnTo>
                  <a:pt x="142" y="945"/>
                </a:lnTo>
                <a:lnTo>
                  <a:pt x="145" y="945"/>
                </a:lnTo>
                <a:close/>
                <a:moveTo>
                  <a:pt x="166" y="795"/>
                </a:moveTo>
                <a:lnTo>
                  <a:pt x="166" y="822"/>
                </a:lnTo>
                <a:lnTo>
                  <a:pt x="140" y="822"/>
                </a:lnTo>
                <a:lnTo>
                  <a:pt x="140" y="795"/>
                </a:lnTo>
                <a:lnTo>
                  <a:pt x="70" y="795"/>
                </a:lnTo>
                <a:lnTo>
                  <a:pt x="70" y="762"/>
                </a:lnTo>
                <a:lnTo>
                  <a:pt x="142" y="762"/>
                </a:lnTo>
                <a:lnTo>
                  <a:pt x="142" y="720"/>
                </a:lnTo>
                <a:lnTo>
                  <a:pt x="169" y="722"/>
                </a:lnTo>
                <a:lnTo>
                  <a:pt x="166" y="765"/>
                </a:lnTo>
                <a:lnTo>
                  <a:pt x="398" y="768"/>
                </a:lnTo>
                <a:lnTo>
                  <a:pt x="398" y="800"/>
                </a:lnTo>
                <a:lnTo>
                  <a:pt x="166" y="795"/>
                </a:lnTo>
                <a:close/>
                <a:moveTo>
                  <a:pt x="43" y="569"/>
                </a:moveTo>
                <a:lnTo>
                  <a:pt x="45" y="567"/>
                </a:lnTo>
                <a:lnTo>
                  <a:pt x="45" y="567"/>
                </a:lnTo>
                <a:lnTo>
                  <a:pt x="45" y="564"/>
                </a:lnTo>
                <a:lnTo>
                  <a:pt x="45" y="561"/>
                </a:lnTo>
                <a:lnTo>
                  <a:pt x="48" y="559"/>
                </a:lnTo>
                <a:lnTo>
                  <a:pt x="48" y="556"/>
                </a:lnTo>
                <a:lnTo>
                  <a:pt x="51" y="556"/>
                </a:lnTo>
                <a:lnTo>
                  <a:pt x="51" y="553"/>
                </a:lnTo>
                <a:lnTo>
                  <a:pt x="54" y="553"/>
                </a:lnTo>
                <a:lnTo>
                  <a:pt x="54" y="551"/>
                </a:lnTo>
                <a:lnTo>
                  <a:pt x="56" y="551"/>
                </a:lnTo>
                <a:lnTo>
                  <a:pt x="59" y="548"/>
                </a:lnTo>
                <a:lnTo>
                  <a:pt x="62" y="548"/>
                </a:lnTo>
                <a:lnTo>
                  <a:pt x="64" y="548"/>
                </a:lnTo>
                <a:lnTo>
                  <a:pt x="64" y="548"/>
                </a:lnTo>
                <a:lnTo>
                  <a:pt x="67" y="548"/>
                </a:lnTo>
                <a:lnTo>
                  <a:pt x="70" y="548"/>
                </a:lnTo>
                <a:lnTo>
                  <a:pt x="72" y="548"/>
                </a:lnTo>
                <a:lnTo>
                  <a:pt x="75" y="548"/>
                </a:lnTo>
                <a:lnTo>
                  <a:pt x="78" y="548"/>
                </a:lnTo>
                <a:lnTo>
                  <a:pt x="78" y="551"/>
                </a:lnTo>
                <a:lnTo>
                  <a:pt x="80" y="551"/>
                </a:lnTo>
                <a:lnTo>
                  <a:pt x="83" y="553"/>
                </a:lnTo>
                <a:lnTo>
                  <a:pt x="83" y="553"/>
                </a:lnTo>
                <a:lnTo>
                  <a:pt x="86" y="556"/>
                </a:lnTo>
                <a:lnTo>
                  <a:pt x="88" y="559"/>
                </a:lnTo>
                <a:lnTo>
                  <a:pt x="88" y="561"/>
                </a:lnTo>
                <a:lnTo>
                  <a:pt x="88" y="561"/>
                </a:lnTo>
                <a:lnTo>
                  <a:pt x="91" y="564"/>
                </a:lnTo>
                <a:lnTo>
                  <a:pt x="91" y="567"/>
                </a:lnTo>
                <a:lnTo>
                  <a:pt x="91" y="569"/>
                </a:lnTo>
                <a:lnTo>
                  <a:pt x="91" y="572"/>
                </a:lnTo>
                <a:lnTo>
                  <a:pt x="91" y="575"/>
                </a:lnTo>
                <a:lnTo>
                  <a:pt x="91" y="577"/>
                </a:lnTo>
                <a:lnTo>
                  <a:pt x="91" y="577"/>
                </a:lnTo>
                <a:lnTo>
                  <a:pt x="88" y="580"/>
                </a:lnTo>
                <a:lnTo>
                  <a:pt x="88" y="583"/>
                </a:lnTo>
                <a:lnTo>
                  <a:pt x="86" y="585"/>
                </a:lnTo>
                <a:lnTo>
                  <a:pt x="86" y="585"/>
                </a:lnTo>
                <a:lnTo>
                  <a:pt x="83" y="588"/>
                </a:lnTo>
                <a:lnTo>
                  <a:pt x="80" y="591"/>
                </a:lnTo>
                <a:lnTo>
                  <a:pt x="80" y="591"/>
                </a:lnTo>
                <a:lnTo>
                  <a:pt x="78" y="591"/>
                </a:lnTo>
                <a:lnTo>
                  <a:pt x="75" y="593"/>
                </a:lnTo>
                <a:lnTo>
                  <a:pt x="72" y="593"/>
                </a:lnTo>
                <a:lnTo>
                  <a:pt x="72" y="593"/>
                </a:lnTo>
                <a:lnTo>
                  <a:pt x="70" y="593"/>
                </a:lnTo>
                <a:lnTo>
                  <a:pt x="67" y="593"/>
                </a:lnTo>
                <a:lnTo>
                  <a:pt x="64" y="593"/>
                </a:lnTo>
                <a:lnTo>
                  <a:pt x="62" y="593"/>
                </a:lnTo>
                <a:lnTo>
                  <a:pt x="59" y="593"/>
                </a:lnTo>
                <a:lnTo>
                  <a:pt x="59" y="593"/>
                </a:lnTo>
                <a:lnTo>
                  <a:pt x="56" y="591"/>
                </a:lnTo>
                <a:lnTo>
                  <a:pt x="54" y="591"/>
                </a:lnTo>
                <a:lnTo>
                  <a:pt x="51" y="588"/>
                </a:lnTo>
                <a:lnTo>
                  <a:pt x="51" y="588"/>
                </a:lnTo>
                <a:lnTo>
                  <a:pt x="48" y="585"/>
                </a:lnTo>
                <a:lnTo>
                  <a:pt x="48" y="583"/>
                </a:lnTo>
                <a:lnTo>
                  <a:pt x="45" y="583"/>
                </a:lnTo>
                <a:lnTo>
                  <a:pt x="45" y="580"/>
                </a:lnTo>
                <a:lnTo>
                  <a:pt x="45" y="577"/>
                </a:lnTo>
                <a:lnTo>
                  <a:pt x="45" y="575"/>
                </a:lnTo>
                <a:lnTo>
                  <a:pt x="43" y="572"/>
                </a:lnTo>
                <a:lnTo>
                  <a:pt x="43" y="569"/>
                </a:lnTo>
                <a:close/>
                <a:moveTo>
                  <a:pt x="145" y="588"/>
                </a:moveTo>
                <a:lnTo>
                  <a:pt x="145" y="556"/>
                </a:lnTo>
                <a:lnTo>
                  <a:pt x="403" y="561"/>
                </a:lnTo>
                <a:lnTo>
                  <a:pt x="400" y="593"/>
                </a:lnTo>
                <a:lnTo>
                  <a:pt x="145" y="588"/>
                </a:lnTo>
                <a:close/>
                <a:moveTo>
                  <a:pt x="150" y="414"/>
                </a:moveTo>
                <a:lnTo>
                  <a:pt x="150" y="381"/>
                </a:lnTo>
                <a:lnTo>
                  <a:pt x="314" y="352"/>
                </a:lnTo>
                <a:lnTo>
                  <a:pt x="320" y="352"/>
                </a:lnTo>
                <a:lnTo>
                  <a:pt x="322" y="352"/>
                </a:lnTo>
                <a:lnTo>
                  <a:pt x="328" y="349"/>
                </a:lnTo>
                <a:lnTo>
                  <a:pt x="333" y="349"/>
                </a:lnTo>
                <a:lnTo>
                  <a:pt x="336" y="349"/>
                </a:lnTo>
                <a:lnTo>
                  <a:pt x="341" y="349"/>
                </a:lnTo>
                <a:lnTo>
                  <a:pt x="344" y="349"/>
                </a:lnTo>
                <a:lnTo>
                  <a:pt x="349" y="347"/>
                </a:lnTo>
                <a:lnTo>
                  <a:pt x="352" y="347"/>
                </a:lnTo>
                <a:lnTo>
                  <a:pt x="357" y="347"/>
                </a:lnTo>
                <a:lnTo>
                  <a:pt x="360" y="347"/>
                </a:lnTo>
                <a:lnTo>
                  <a:pt x="365" y="347"/>
                </a:lnTo>
                <a:lnTo>
                  <a:pt x="368" y="344"/>
                </a:lnTo>
                <a:lnTo>
                  <a:pt x="374" y="344"/>
                </a:lnTo>
                <a:lnTo>
                  <a:pt x="376" y="344"/>
                </a:lnTo>
                <a:lnTo>
                  <a:pt x="382" y="344"/>
                </a:lnTo>
                <a:lnTo>
                  <a:pt x="376" y="344"/>
                </a:lnTo>
                <a:lnTo>
                  <a:pt x="371" y="341"/>
                </a:lnTo>
                <a:lnTo>
                  <a:pt x="365" y="341"/>
                </a:lnTo>
                <a:lnTo>
                  <a:pt x="357" y="339"/>
                </a:lnTo>
                <a:lnTo>
                  <a:pt x="352" y="339"/>
                </a:lnTo>
                <a:lnTo>
                  <a:pt x="344" y="336"/>
                </a:lnTo>
                <a:lnTo>
                  <a:pt x="333" y="333"/>
                </a:lnTo>
                <a:lnTo>
                  <a:pt x="322" y="330"/>
                </a:lnTo>
                <a:lnTo>
                  <a:pt x="314" y="330"/>
                </a:lnTo>
                <a:lnTo>
                  <a:pt x="153" y="293"/>
                </a:lnTo>
                <a:lnTo>
                  <a:pt x="153" y="261"/>
                </a:lnTo>
                <a:lnTo>
                  <a:pt x="408" y="328"/>
                </a:lnTo>
                <a:lnTo>
                  <a:pt x="406" y="363"/>
                </a:lnTo>
                <a:lnTo>
                  <a:pt x="150" y="414"/>
                </a:lnTo>
                <a:close/>
                <a:moveTo>
                  <a:pt x="269" y="30"/>
                </a:moveTo>
                <a:lnTo>
                  <a:pt x="258" y="30"/>
                </a:lnTo>
                <a:lnTo>
                  <a:pt x="247" y="30"/>
                </a:lnTo>
                <a:lnTo>
                  <a:pt x="239" y="30"/>
                </a:lnTo>
                <a:lnTo>
                  <a:pt x="231" y="30"/>
                </a:lnTo>
                <a:lnTo>
                  <a:pt x="223" y="33"/>
                </a:lnTo>
                <a:lnTo>
                  <a:pt x="218" y="33"/>
                </a:lnTo>
                <a:lnTo>
                  <a:pt x="210" y="35"/>
                </a:lnTo>
                <a:lnTo>
                  <a:pt x="204" y="38"/>
                </a:lnTo>
                <a:lnTo>
                  <a:pt x="199" y="41"/>
                </a:lnTo>
                <a:lnTo>
                  <a:pt x="193" y="43"/>
                </a:lnTo>
                <a:lnTo>
                  <a:pt x="191" y="46"/>
                </a:lnTo>
                <a:lnTo>
                  <a:pt x="188" y="49"/>
                </a:lnTo>
                <a:lnTo>
                  <a:pt x="185" y="54"/>
                </a:lnTo>
                <a:lnTo>
                  <a:pt x="183" y="57"/>
                </a:lnTo>
                <a:lnTo>
                  <a:pt x="183" y="62"/>
                </a:lnTo>
                <a:lnTo>
                  <a:pt x="180" y="65"/>
                </a:lnTo>
                <a:lnTo>
                  <a:pt x="180" y="70"/>
                </a:lnTo>
                <a:lnTo>
                  <a:pt x="183" y="76"/>
                </a:lnTo>
                <a:lnTo>
                  <a:pt x="183" y="78"/>
                </a:lnTo>
                <a:lnTo>
                  <a:pt x="185" y="84"/>
                </a:lnTo>
                <a:lnTo>
                  <a:pt x="188" y="86"/>
                </a:lnTo>
                <a:lnTo>
                  <a:pt x="193" y="89"/>
                </a:lnTo>
                <a:lnTo>
                  <a:pt x="196" y="94"/>
                </a:lnTo>
                <a:lnTo>
                  <a:pt x="201" y="97"/>
                </a:lnTo>
                <a:lnTo>
                  <a:pt x="210" y="100"/>
                </a:lnTo>
                <a:lnTo>
                  <a:pt x="215" y="102"/>
                </a:lnTo>
                <a:lnTo>
                  <a:pt x="220" y="105"/>
                </a:lnTo>
                <a:lnTo>
                  <a:pt x="228" y="105"/>
                </a:lnTo>
                <a:lnTo>
                  <a:pt x="236" y="108"/>
                </a:lnTo>
                <a:lnTo>
                  <a:pt x="247" y="110"/>
                </a:lnTo>
                <a:lnTo>
                  <a:pt x="255" y="110"/>
                </a:lnTo>
                <a:lnTo>
                  <a:pt x="266" y="110"/>
                </a:lnTo>
                <a:lnTo>
                  <a:pt x="269" y="30"/>
                </a:lnTo>
                <a:close/>
                <a:moveTo>
                  <a:pt x="296" y="0"/>
                </a:moveTo>
                <a:lnTo>
                  <a:pt x="293" y="110"/>
                </a:lnTo>
                <a:lnTo>
                  <a:pt x="301" y="110"/>
                </a:lnTo>
                <a:lnTo>
                  <a:pt x="312" y="113"/>
                </a:lnTo>
                <a:lnTo>
                  <a:pt x="320" y="110"/>
                </a:lnTo>
                <a:lnTo>
                  <a:pt x="331" y="110"/>
                </a:lnTo>
                <a:lnTo>
                  <a:pt x="339" y="110"/>
                </a:lnTo>
                <a:lnTo>
                  <a:pt x="347" y="108"/>
                </a:lnTo>
                <a:lnTo>
                  <a:pt x="355" y="108"/>
                </a:lnTo>
                <a:lnTo>
                  <a:pt x="360" y="105"/>
                </a:lnTo>
                <a:lnTo>
                  <a:pt x="365" y="102"/>
                </a:lnTo>
                <a:lnTo>
                  <a:pt x="374" y="100"/>
                </a:lnTo>
                <a:lnTo>
                  <a:pt x="376" y="97"/>
                </a:lnTo>
                <a:lnTo>
                  <a:pt x="382" y="94"/>
                </a:lnTo>
                <a:lnTo>
                  <a:pt x="384" y="89"/>
                </a:lnTo>
                <a:lnTo>
                  <a:pt x="387" y="86"/>
                </a:lnTo>
                <a:lnTo>
                  <a:pt x="390" y="81"/>
                </a:lnTo>
                <a:lnTo>
                  <a:pt x="390" y="78"/>
                </a:lnTo>
                <a:lnTo>
                  <a:pt x="390" y="73"/>
                </a:lnTo>
                <a:lnTo>
                  <a:pt x="390" y="68"/>
                </a:lnTo>
                <a:lnTo>
                  <a:pt x="390" y="65"/>
                </a:lnTo>
                <a:lnTo>
                  <a:pt x="390" y="62"/>
                </a:lnTo>
                <a:lnTo>
                  <a:pt x="387" y="57"/>
                </a:lnTo>
                <a:lnTo>
                  <a:pt x="384" y="54"/>
                </a:lnTo>
                <a:lnTo>
                  <a:pt x="382" y="51"/>
                </a:lnTo>
                <a:lnTo>
                  <a:pt x="379" y="49"/>
                </a:lnTo>
                <a:lnTo>
                  <a:pt x="374" y="46"/>
                </a:lnTo>
                <a:lnTo>
                  <a:pt x="371" y="43"/>
                </a:lnTo>
                <a:lnTo>
                  <a:pt x="365" y="41"/>
                </a:lnTo>
                <a:lnTo>
                  <a:pt x="360" y="38"/>
                </a:lnTo>
                <a:lnTo>
                  <a:pt x="355" y="38"/>
                </a:lnTo>
                <a:lnTo>
                  <a:pt x="349" y="35"/>
                </a:lnTo>
                <a:lnTo>
                  <a:pt x="344" y="35"/>
                </a:lnTo>
                <a:lnTo>
                  <a:pt x="336" y="35"/>
                </a:lnTo>
                <a:lnTo>
                  <a:pt x="328" y="33"/>
                </a:lnTo>
                <a:lnTo>
                  <a:pt x="331" y="3"/>
                </a:lnTo>
                <a:lnTo>
                  <a:pt x="339" y="3"/>
                </a:lnTo>
                <a:lnTo>
                  <a:pt x="349" y="6"/>
                </a:lnTo>
                <a:lnTo>
                  <a:pt x="357" y="8"/>
                </a:lnTo>
                <a:lnTo>
                  <a:pt x="365" y="11"/>
                </a:lnTo>
                <a:lnTo>
                  <a:pt x="374" y="14"/>
                </a:lnTo>
                <a:lnTo>
                  <a:pt x="382" y="17"/>
                </a:lnTo>
                <a:lnTo>
                  <a:pt x="390" y="19"/>
                </a:lnTo>
                <a:lnTo>
                  <a:pt x="395" y="25"/>
                </a:lnTo>
                <a:lnTo>
                  <a:pt x="400" y="30"/>
                </a:lnTo>
                <a:lnTo>
                  <a:pt x="406" y="35"/>
                </a:lnTo>
                <a:lnTo>
                  <a:pt x="408" y="41"/>
                </a:lnTo>
                <a:lnTo>
                  <a:pt x="411" y="46"/>
                </a:lnTo>
                <a:lnTo>
                  <a:pt x="414" y="51"/>
                </a:lnTo>
                <a:lnTo>
                  <a:pt x="417" y="59"/>
                </a:lnTo>
                <a:lnTo>
                  <a:pt x="417" y="68"/>
                </a:lnTo>
                <a:lnTo>
                  <a:pt x="419" y="73"/>
                </a:lnTo>
                <a:lnTo>
                  <a:pt x="417" y="81"/>
                </a:lnTo>
                <a:lnTo>
                  <a:pt x="417" y="89"/>
                </a:lnTo>
                <a:lnTo>
                  <a:pt x="414" y="97"/>
                </a:lnTo>
                <a:lnTo>
                  <a:pt x="408" y="105"/>
                </a:lnTo>
                <a:lnTo>
                  <a:pt x="403" y="110"/>
                </a:lnTo>
                <a:lnTo>
                  <a:pt x="398" y="116"/>
                </a:lnTo>
                <a:lnTo>
                  <a:pt x="392" y="121"/>
                </a:lnTo>
                <a:lnTo>
                  <a:pt x="384" y="127"/>
                </a:lnTo>
                <a:lnTo>
                  <a:pt x="376" y="132"/>
                </a:lnTo>
                <a:lnTo>
                  <a:pt x="365" y="135"/>
                </a:lnTo>
                <a:lnTo>
                  <a:pt x="355" y="137"/>
                </a:lnTo>
                <a:lnTo>
                  <a:pt x="344" y="140"/>
                </a:lnTo>
                <a:lnTo>
                  <a:pt x="331" y="140"/>
                </a:lnTo>
                <a:lnTo>
                  <a:pt x="317" y="143"/>
                </a:lnTo>
                <a:lnTo>
                  <a:pt x="301" y="143"/>
                </a:lnTo>
                <a:lnTo>
                  <a:pt x="285" y="143"/>
                </a:lnTo>
                <a:lnTo>
                  <a:pt x="269" y="143"/>
                </a:lnTo>
                <a:lnTo>
                  <a:pt x="255" y="140"/>
                </a:lnTo>
                <a:lnTo>
                  <a:pt x="242" y="140"/>
                </a:lnTo>
                <a:lnTo>
                  <a:pt x="228" y="137"/>
                </a:lnTo>
                <a:lnTo>
                  <a:pt x="218" y="135"/>
                </a:lnTo>
                <a:lnTo>
                  <a:pt x="207" y="129"/>
                </a:lnTo>
                <a:lnTo>
                  <a:pt x="196" y="127"/>
                </a:lnTo>
                <a:lnTo>
                  <a:pt x="185" y="121"/>
                </a:lnTo>
                <a:lnTo>
                  <a:pt x="177" y="116"/>
                </a:lnTo>
                <a:lnTo>
                  <a:pt x="172" y="110"/>
                </a:lnTo>
                <a:lnTo>
                  <a:pt x="164" y="102"/>
                </a:lnTo>
                <a:lnTo>
                  <a:pt x="161" y="97"/>
                </a:lnTo>
                <a:lnTo>
                  <a:pt x="156" y="89"/>
                </a:lnTo>
                <a:lnTo>
                  <a:pt x="153" y="84"/>
                </a:lnTo>
                <a:lnTo>
                  <a:pt x="153" y="76"/>
                </a:lnTo>
                <a:lnTo>
                  <a:pt x="153" y="65"/>
                </a:lnTo>
                <a:lnTo>
                  <a:pt x="153" y="57"/>
                </a:lnTo>
                <a:lnTo>
                  <a:pt x="156" y="49"/>
                </a:lnTo>
                <a:lnTo>
                  <a:pt x="158" y="43"/>
                </a:lnTo>
                <a:lnTo>
                  <a:pt x="161" y="35"/>
                </a:lnTo>
                <a:lnTo>
                  <a:pt x="166" y="30"/>
                </a:lnTo>
                <a:lnTo>
                  <a:pt x="172" y="25"/>
                </a:lnTo>
                <a:lnTo>
                  <a:pt x="180" y="19"/>
                </a:lnTo>
                <a:lnTo>
                  <a:pt x="185" y="14"/>
                </a:lnTo>
                <a:lnTo>
                  <a:pt x="196" y="11"/>
                </a:lnTo>
                <a:lnTo>
                  <a:pt x="204" y="8"/>
                </a:lnTo>
                <a:lnTo>
                  <a:pt x="218" y="6"/>
                </a:lnTo>
                <a:lnTo>
                  <a:pt x="228" y="3"/>
                </a:lnTo>
                <a:lnTo>
                  <a:pt x="242" y="0"/>
                </a:lnTo>
                <a:lnTo>
                  <a:pt x="255" y="0"/>
                </a:lnTo>
                <a:lnTo>
                  <a:pt x="269" y="0"/>
                </a:lnTo>
                <a:lnTo>
                  <a:pt x="285" y="0"/>
                </a:lnTo>
                <a:lnTo>
                  <a:pt x="296" y="0"/>
                </a:lnTo>
                <a:close/>
              </a:path>
            </a:pathLst>
          </a:custGeom>
          <a:solidFill>
            <a:srgbClr val="f5da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3dfx" descr=""/>
          <p:cNvPicPr/>
          <p:nvPr/>
        </p:nvPicPr>
        <p:blipFill>
          <a:blip r:embed="rId3"/>
          <a:stretch/>
        </p:blipFill>
        <p:spPr>
          <a:xfrm>
            <a:off x="85680" y="61920"/>
            <a:ext cx="1285920" cy="9954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"/>
          <p:cNvSpPr/>
          <p:nvPr/>
        </p:nvSpPr>
        <p:spPr>
          <a:xfrm>
            <a:off x="3535920" y="6476400"/>
            <a:ext cx="24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3dfx Proprietary and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32120" y="64922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3383-0E54-4A32-A0A7-3E916C2D2C6C}" type="datetime"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994160" y="647640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C759-18E4-4CFA-85FC-743A9977C256}" type="slidenum"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1868400"/>
            <a:ext cx="6629400" cy="95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3dfx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hanced T-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b-sample, full scen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tion blu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pth of fiel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ft shadow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ft reflectan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creased sampling size of up to 8, 16 samples with 2-wa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t 16 samples you achieve “Bug’s Life” qual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ple Patents-pending texture bandwidth amplifi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tented 2-stage architec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ery high efficiency w/o huge die area penal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compressed &amp; uncompressed textur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64-entr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exible Texture compression engi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Microsoft texture compres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3dfx patent-pending texture compres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lor Combine Un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ly programmabl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irtually N x N or N + N color combine mod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ique color iterator per tex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rate specular w/o performance cost when multi-textur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28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7162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adically advanced Bump Mapp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 quality bump mapping: ReN8 Texture Array bump mapping track the light in true 3D rather than DX7’s 2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ynamic bump mapping: using 3 or more textur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mooth bump mapping: Smooth seams across polygon edges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cedurally generated effec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more textures the bett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aving flexible recursive texturing is critical, and makes the effects look substantially better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generality of the math unit allows it to dynamically generate particle system effects (not just play back of movies or CPU generated data) such as fire and explosion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90720" y="5105520"/>
          <a:ext cx="533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105520"/>
                    <a:ext cx="533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952560" y="5791320"/>
          <a:ext cx="60012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2560" y="5791320"/>
                    <a:ext cx="6001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Coherent Pixel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ample Engin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-sample, full-scene antialias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performance penalty for multi-textured cas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order requirem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API chang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GI Infinite Reality-lik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 fully featured pixels per cloc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 or 32-bit color rendering to frame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 or 24-bit integer or floating point depth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-bit stencil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ent-pending frame buffer cach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 off-chip frame buffer bandwidth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ampage Graphics Pipel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 internal calculations at 52-bits preci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3 bits signed per compon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erated alph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verBright ligh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s the darkening inherent in multi-texture rendering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360520" y="3733920"/>
          <a:ext cx="548820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0520" y="3733920"/>
                    <a:ext cx="54882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ptimized Geometry Acceleration w/Viewport transform &amp; Clipp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s CPU requirements by moving the W reciprocal calculations into hardware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s viewport transformation in HW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s color and texture coordinate scaling to reduce driver overhead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uly balanced solution optimizing cost of subsystem vs. CPU performan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hat the developers have been asking fo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ve transform and clipping functions to hardwa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eave lighting on the host side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vides developers with improved performance and the ability to differentiate through lighting and multiple textur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Setup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7M triangles per second pea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lly pipelined, floating point triangle setu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EEE SP Floating Poi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arly guardband primitive rejec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ccepts fully featured D3D TL vertic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ented triangle-filling techniqu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strips, fans and mesh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ckface cull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oating point sub-pixel corre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s 8 simultaneously active clip reg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OpenGL lines (wide &amp; stippled) with support for AA line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Delivered Performanc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76080" y="1000080"/>
            <a:ext cx="75675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rame rate on Unreal @ 16-bit color with multi-sample AA @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1600x120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(7.68M texels @ DC 2.2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820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920" y="21337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sh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280" y="35053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doo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920" y="50292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2362320"/>
            <a:ext cx="822240" cy="0"/>
          </a:xfrm>
          <a:prstGeom prst="line">
            <a:avLst/>
          </a:prstGeom>
          <a:ln w="152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3733920"/>
            <a:ext cx="219384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5334120"/>
            <a:ext cx="6689520" cy="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3280" y="58276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43200" y="5827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7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2800" y="58276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.3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54320" y="4876920"/>
            <a:ext cx="4327560" cy="0"/>
          </a:xfrm>
          <a:prstGeom prst="line">
            <a:avLst/>
          </a:prstGeom>
          <a:ln w="152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97320" y="44798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x Fas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Video Engin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 Video architecture ... from the ground u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50 MHz 10-bit RAMDAC with independently programmable gamm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P Port 1.1 w/2.0 extensions - including ability to support HDTV resolution data ra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920 x 1080 @ 60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industry standard encoders &amp; decoders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industry standard MPEG-2 decoders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Video Engin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tion Compens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 tap X, 4 tap Y video filtering w/programmable coefficient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-flicker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b, Weave &amp; adaptive de-interlac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l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aptive Cross Fa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BI sup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at Panel Support w/external transmit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14400" y="5562720"/>
          <a:ext cx="695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562720"/>
                    <a:ext cx="695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03360"/>
            <a:ext cx="694872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developer’s reference platform, and the most powerful graphics platform available for the personal computer for the year 2000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494600"/>
            <a:ext cx="68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big a leap forward in 3D graphics for the PC as the original Voodoo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2D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lds fastest 2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rived from Voodoo3 2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timized to take advantage of Rampage’s massive memory bandwidt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for full AGP execute mo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ivers highest performance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Physical Design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18 micr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0 MHz typical frequ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~8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~18M transisto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AIC Configurations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2 / 64 / 128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00M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4 / 128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.6G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28 / 256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.2G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Development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mpage is the first product at 3dfx to be developed via emu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duces time to market and increases confidence in the archite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s robu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rst silic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itial driv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mulation has proven invaluable to this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st blocks emulated and functional at this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Schedul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 schedu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0 TO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/13/99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ple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2/08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al unit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3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productio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QL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tio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15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749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is a conservative schedule based on the fact that this is a “from gate zero” new desig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Key Features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7M Triangles/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00MP/s fill r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 fully featured pixels per cloc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lti-sample antialia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hanced 3dfx T-Buffer technolog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grated geometry co-proces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dically new 3D featu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GP 4X with Execute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6MB to 128MB frame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, full featured video archite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9903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Pix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ll rate i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the most important factor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for real-time 3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00 M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ngle chip offers higher fill rates than 2-way Napalm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hoto-realistic Pix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8-textures per pixel w/o multi-pass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eater than 32-bit pixel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-sampl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hanced T-Buffer technolog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timized Geomet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lance geometry load with CP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able developer differenti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ca8"/>
                </a:solidFill>
                <a:latin typeface="Tahoma"/>
              </a:rPr>
              <a:t>So what will it look like?</a:t>
            </a:r>
            <a:endParaRPr b="0" lang="en-US" sz="40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76440" y="999720"/>
            <a:ext cx="337032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ables complex, realistic scen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50k triangles per fram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8 textures per pix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uge amounts of textures (over 100MB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ll-scene, multi-sample A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yperColo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@ 60 frames per secon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724280" y="1784520"/>
            <a:ext cx="415296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Performanc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5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single textured, 24-bit compressed textures w/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dual textured, 24-bit compressed textures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quad textured, 24-bit compressed textures, 4-sample AA,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2-bit, bilinear filtered, 8-textured, 24-bit compressed textures, 4-sample AA,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Bandwidth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28-bit memory control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00+ MHz DDR SG/SD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128MB of local frame buffer memo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00% support for AGP 4X including execute mode &amp; fast host writ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rbitrary Render Targets (P-Buffers, etc.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ndered image can be used as tex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nal crossbar architecture for additive memory bandwidth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mproves memory BW efficienc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.4GB/sec frame buffer memory bandwidth (using 200 MHz DDR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ly efficient memory utilization, optimal fetch granular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lligent look-ahead and page pre-char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exible per-surface memory organization, block, tiled and linea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Bandwidth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grated AGP4x Brid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ll support for all AGP4X featur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AGP4X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st Host Writ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ecute Mo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4-way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 Rasterizer: 800+ M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 Rasterizers: 1.6+ G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 Rasterizers: 3.2+ G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ptimized raster pattern for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eatly improved SLI efficienc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8 textures w/o multipass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8-way associativi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ny patents (10+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 precision iterato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gister based combin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ut-of-order textur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xture Recirculation &amp; recur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ue Bump Mapping w/environment mapp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grammable Filter Kernel (per texture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ilinea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ilinea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grammable Anisotropic - up to 128-tap (16 trilinear x 8 sample in single pass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66680" y="5029200"/>
          <a:ext cx="3906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029200"/>
                    <a:ext cx="390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990720" y="5486400"/>
          <a:ext cx="57132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486400"/>
                    <a:ext cx="5713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3T01:25:00Z</dcterms:created>
  <dc:creator>Tony Tamasi</dc:creator>
  <dc:description/>
  <dc:language>en-US</dc:language>
  <cp:lastModifiedBy>Charles (Herb) Kuta</cp:lastModifiedBy>
  <cp:lastPrinted>1999-08-02T16:53:47Z</cp:lastPrinted>
  <dcterms:modified xsi:type="dcterms:W3CDTF">1999-12-09T20:37:37Z</dcterms:modified>
  <cp:revision>66</cp:revision>
  <dc:subject/>
  <dc:title>No Slide Title</dc:title>
</cp:coreProperties>
</file>